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49B-DAC9-4165-AE09-60E96BEB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5EA-758E-4476-B748-69190744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2C0B-5A24-476F-91CF-18424315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C94A-AAC0-415B-831E-CF22B825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3F9-FDD9-41F5-BEB1-583EB074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E1AD-C929-4A1C-BE4E-87C09084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DAA-1A21-49B6-9C81-A2621283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C08E-7206-4DDB-B572-B50763D0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8C7D-C018-461C-B0B2-B445DBD8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693E-4487-4333-BB70-9539A2FE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A0B3-10E0-4549-AFA5-46F83DFD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D9A5-47E9-4E71-AB23-FC989A13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EFDC-36DA-43E5-8564-F3AC9B4DC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75 Keď sa Kristu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zem vrá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Kristus na zem vrá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žbu mám ho uvid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zrieť toho, ktorý z lás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mňa ochotný bol mr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jasná slnka žiar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vieť sa bude jeho tvár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ja budem česť mu vzdá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prevzácny spásy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ho vidím iba vier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voj hriechu delí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 však, že už skoro pôjd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do jeho ríše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jasná slnka žiar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vieť sa bude jeho tvár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ja budem česť mu vzdá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prevzácny spásy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mi večnú radosť sľúb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, kde žialiť nebud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ého, čo tu ma tráp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baví ma sám on, v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jasná slnka žiar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vieť sa bude jeho tvár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ja budem česť mu vzdá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prevzácny spásy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vidím raz Spasiteľ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m sa teším nocou, dň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uje ma večnou lásk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ť, pokoj mám len v ň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jasná slnka žiar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vieť sa bude jeho tvár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ja budem česť mu vzdá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prevzácny spásy dar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MD</cp:lastModifiedBy>
  <dcterms:modified xsi:type="dcterms:W3CDTF">2000-12-12T18:36:51Z</dcterms:modified>
  <cp:revision>6</cp:revision>
  <dc:subject/>
  <dc:title>Bez nadpisu</dc:title>
</cp:coreProperties>
</file>